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73AC-D56E-4906-B4E3-DB743E566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CF6E-6180-4356-AB52-325EEA4AE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presentation, “Healthy Mom, Healthy Baby,” is an interesting look at how nutrition sets the foundation for life throughout pregnancy and beyond for both the mother and her newborn bab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CEB-16EB-48E1-A31A-848CD4BD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F3B-FBFC-4480-9FE8-8EEF4F71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27E-B85F-4CB6-97AA-A5A62F85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370-0AFB-4352-AD49-9E4EE8D4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C72A-244A-4A61-9044-0E56C6B3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333A-26E3-444A-9C18-10A61E08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357A-EE31-4C86-A573-30AB2BC6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6684-F065-4C2F-A4F4-00973E0E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AE35-8B6E-4736-9C8B-9BC64230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F722-E6E8-4EFF-841C-34E4ED14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5B3F-781D-42B1-8194-7A2A9055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F85-4438-457D-88A7-C2EABD21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F1CE-5346-4C08-87E3-FB1C52F7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920D-146E-469F-B9C4-1AAB67FB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F6E6-96F9-496B-B0CF-E40F37A8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B460-8428-45A0-B391-952CCDCD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E607-F8C0-45B6-93E9-5E46A373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D45-E3A9-4AD4-962C-78C9F7FC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A1C-E0A0-4CEE-B8A2-AF3634AF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08B8-50D5-44AA-8FD0-028C9EA1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AA9-686F-4344-BDD0-077B83B6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3EE-DCEC-4512-97E0-AD97C5E5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5BD-ADA3-40BB-B7BA-915D3646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A07-A0FA-45BA-9415-A84F68B2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5F46-417D-4F1A-895A-AB041932CA7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8674-D0A2-475B-B1F6-FA51352139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F5B5-2573-4D78-A8EC-7C07731FA0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9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0"/>
          <p:cNvSpPr/>
          <p:nvPr/>
        </p:nvSpPr>
        <p:spPr>
          <a:xfrm>
            <a:off x="3657600" y="3733920"/>
            <a:ext cx="1676520" cy="16002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1" descr=""/>
          <p:cNvPicPr/>
          <p:nvPr/>
        </p:nvPicPr>
        <p:blipFill>
          <a:blip r:embed="rId1"/>
          <a:stretch/>
        </p:blipFill>
        <p:spPr>
          <a:xfrm>
            <a:off x="3429000" y="2438280"/>
            <a:ext cx="2590920" cy="23623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3"/>
          <p:cNvSpPr/>
          <p:nvPr/>
        </p:nvSpPr>
        <p:spPr>
          <a:xfrm>
            <a:off x="914400" y="914400"/>
            <a:ext cx="750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Mission Shakti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838080" y="5257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epartment of Women &amp; Child Development and Mission Shak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im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240" y="10663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tion of 3 lakh new SHGs by Dec 201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new SHGs per AWC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SHGs till March’17 – 3.23 lak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Gs formed till date – 1.15 lak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3A39-F50E-4942-9790-03AC603447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B97E-0E38-463E-88EE-A74CA9BA50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38080" y="874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mation of New SHGs  as on 27.10.1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609480"/>
          <a:ext cx="8686800" cy="5715000"/>
        </p:xfrm>
        <a:graphic>
          <a:graphicData uri="http://schemas.openxmlformats.org/drawingml/2006/table">
            <a:tbl>
              <a:tblPr/>
              <a:tblGrid>
                <a:gridCol w="550800"/>
                <a:gridCol w="1876320"/>
                <a:gridCol w="936720"/>
                <a:gridCol w="1611360"/>
                <a:gridCol w="1671480"/>
                <a:gridCol w="1060560"/>
                <a:gridCol w="979560"/>
              </a:tblGrid>
              <a:tr h="7923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of the 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W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Gs  formed by 27.1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New SHGs form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ce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warangp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j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urbhan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ep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henka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a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balp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arsug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ang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ahan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ap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atsinghp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yag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yaga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D244-D713-4FB7-9FB8-18D1E409FF9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609480"/>
          <a:ext cx="8610480" cy="5791320"/>
        </p:xfrm>
        <a:graphic>
          <a:graphicData uri="http://schemas.openxmlformats.org/drawingml/2006/table">
            <a:tbl>
              <a:tblPr/>
              <a:tblGrid>
                <a:gridCol w="546120"/>
                <a:gridCol w="1858680"/>
                <a:gridCol w="930240"/>
                <a:gridCol w="1597320"/>
                <a:gridCol w="1657080"/>
                <a:gridCol w="1051200"/>
                <a:gridCol w="969840"/>
              </a:tblGrid>
              <a:tr h="78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of the 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W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Gs  formed by 27.1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New SHGs form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12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ga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t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d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s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adr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dha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drapa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kangi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onj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jap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oga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erga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jp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ur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0,8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,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,8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3"/>
          <p:cNvSpPr/>
          <p:nvPr/>
        </p:nvSpPr>
        <p:spPr>
          <a:xfrm>
            <a:off x="838080" y="874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mation of New SHGs  as on 27.10.1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st Performing District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2F57-D1DB-4BDD-BDC3-3C20F549BA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143000"/>
          <a:ext cx="8381880" cy="3565440"/>
        </p:xfrm>
        <a:graphic>
          <a:graphicData uri="http://schemas.openxmlformats.org/drawingml/2006/table">
            <a:tbl>
              <a:tblPr/>
              <a:tblGrid>
                <a:gridCol w="531720"/>
                <a:gridCol w="1809720"/>
                <a:gridCol w="905040"/>
                <a:gridCol w="1689120"/>
                <a:gridCol w="1479600"/>
                <a:gridCol w="1022400"/>
                <a:gridCol w="944280"/>
              </a:tblGrid>
              <a:tr h="7412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 N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of the 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W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Gs  formed by 27.1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New SHGs form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41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warangp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j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urbhan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 performing Distri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FB65-646C-4813-A9E7-E5EEC712AE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" y="914400"/>
          <a:ext cx="8686800" cy="5576760"/>
        </p:xfrm>
        <a:graphic>
          <a:graphicData uri="http://schemas.openxmlformats.org/drawingml/2006/table">
            <a:tbl>
              <a:tblPr/>
              <a:tblGrid>
                <a:gridCol w="550800"/>
                <a:gridCol w="1876320"/>
                <a:gridCol w="936720"/>
                <a:gridCol w="1611360"/>
                <a:gridCol w="1671840"/>
                <a:gridCol w="1060200"/>
                <a:gridCol w="979560"/>
              </a:tblGrid>
              <a:tr h="7412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 N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of the 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W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Gs  formed by 27.1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New SHGs form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ce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d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so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dham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adra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kangir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drapa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onjh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japat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ogar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ergar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jp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ur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1,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6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,6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1066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 with bank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S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ining program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adline : December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5A4A-0D70-41FA-B91E-0C1587263E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extBox 2" descr=""/>
          <p:cNvPicPr/>
          <p:nvPr/>
        </p:nvPicPr>
        <p:blipFill>
          <a:blip r:embed="rId1"/>
          <a:stretch/>
        </p:blipFill>
        <p:spPr>
          <a:xfrm>
            <a:off x="2584440" y="2627280"/>
            <a:ext cx="33163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2T09:30:24Z</dcterms:created>
  <dc:creator>SRCW-hcl1</dc:creator>
  <dc:description/>
  <dc:language>en-US</dc:language>
  <cp:lastModifiedBy>hp</cp:lastModifiedBy>
  <dcterms:modified xsi:type="dcterms:W3CDTF">2017-10-28T05:16:01Z</dcterms:modified>
  <cp:revision>154</cp:revision>
  <dc:subject/>
  <dc:title>Slide 1</dc:title>
</cp:coreProperties>
</file>