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9712-8B69-482B-B52F-50C63EDC1543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AF10-C819-4C6A-AD9A-E50F4BF6DF76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2915-DAC8-4027-BF51-43F4F31933E4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932-57CD-44A7-92B0-50C25577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904-A250-4F68-A4F7-0D4F9515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072-1521-427E-8B09-8A0834CB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DCE-E9AE-4E04-97A4-AD03BA61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CBE-B275-46EF-98A2-BE22B051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C548-78AF-4ECD-887A-CF614F68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1F6A-217A-4F0C-BA9F-D8DBA98D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11D1-7FC8-494F-9FEB-DD340BB6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278A-11EE-4FA1-904B-615F0E9F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0CF0-89F3-469F-B25C-70BAC013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530-A279-4DF3-A434-5BDE8351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8D0C-14F0-4A4B-9609-A3DA59F1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E046-812B-4C37-8EE9-18CBE653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7CAF-4E61-4F25-94F8-7672FAED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5195-81CD-4C96-9E9C-8C8CBA09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9F88-9E60-402B-9C37-417FEBBB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E885-1418-46EC-9992-0EE34530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8923-9FC1-45AD-8E0E-5E3C211F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0EAF-C61A-4730-960C-19B1A7B9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AA7C-F6E4-4006-8291-BA83A7DB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563-183E-4266-BC17-EE107012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93AA-442F-4FD9-A77A-C1FF66A7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25C8-678A-4BC0-9762-9AC8EE64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C623-4785-4206-B22D-6C841E19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39AC-558E-4652-B2F5-FC6D0BEBB568}" type="slidenum">
              <a:rPr b="0" lang="en-I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7188-4203-4C68-9409-FCE1CFD97C9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9C42-8580-4BB9-9DEE-F99B91F41B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58680" y="-285840"/>
            <a:ext cx="3920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115920" y="-209520"/>
            <a:ext cx="3920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tle 1"/>
          <p:cNvSpPr/>
          <p:nvPr/>
        </p:nvSpPr>
        <p:spPr>
          <a:xfrm>
            <a:off x="1066680" y="1676520"/>
            <a:ext cx="6705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376092"/>
                </a:solidFill>
                <a:latin typeface="Constantia"/>
              </a:rPr>
              <a:t>Collectors Co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809880" y="4800600"/>
            <a:ext cx="508320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76092"/>
                </a:solidFill>
                <a:latin typeface="Constantia"/>
              </a:rPr>
              <a:t>28th October,2017</a:t>
            </a:r>
            <a:br>
              <a:rPr sz="2400"/>
            </a:br>
            <a:br>
              <a:rPr sz="2400"/>
            </a:br>
            <a:r>
              <a:rPr b="1" lang="en-IN" sz="2400" spc="-1" strike="noStrike">
                <a:solidFill>
                  <a:srgbClr val="376092"/>
                </a:solidFill>
                <a:latin typeface="Constantia"/>
              </a:rPr>
              <a:t>Women &amp; Child Development and MS Depar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0000"/>
                </a:solidFill>
                <a:latin typeface="Constantia"/>
              </a:rPr>
              <a:t>Strengthening Implementation of IC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nitoring of activities implemented in AW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nsure strict monitoring of monthly field visits by District and Block level function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view of activities of IC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rowth monitoring of child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mmunization of child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nitoring of VHND/SNP/Pre School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66680" y="2209680"/>
          <a:ext cx="7162920" cy="1965600"/>
        </p:xfrm>
        <a:graphic>
          <a:graphicData uri="http://schemas.openxmlformats.org/drawingml/2006/table">
            <a:tbl>
              <a:tblPr/>
              <a:tblGrid>
                <a:gridCol w="2438640"/>
                <a:gridCol w="472428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ffi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andatory days to vis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S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S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gramme Offi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DP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per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isit all AWCs atleast once in 6 wee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0000"/>
                </a:solidFill>
                <a:latin typeface="Constantia"/>
              </a:rPr>
              <a:t>Strengthening Implementation of IC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dentification of children with Severe Acute Malnutrition(SAM) and vulnerability assessment of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onstantia"/>
              </a:rPr>
              <a:t>Identify SAM children &amp; Refer to NR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Vulnerability mapping of families of SAM child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nsure convergence with other Departmental scheme for families with SAM child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verage of Hard to reach are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967 hard to reach areas identified in 30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llectors to timely review &amp; assess delivery of services in hard to reach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trengthening implementation of Hot Cooked Meals (HCM) &amp; Take Home Ration (TH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19040" y="1219320"/>
            <a:ext cx="8344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ue diligence in engaging SH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pervisors to remain present on the day of mixing of THR as per the guidelines issu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-Collector, DSWO, CDPOs to visit the THR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WWs, Supervisors to verify the THR packets supplied by SH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mbers of Jaanch and Mothers Committee to visit 2-3 households per fortnight to ensure consumption of T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5029200"/>
            <a:ext cx="7391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vision of Ration cost under Supplementary Nutrition Programme is under consid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123480"/>
            <a:ext cx="8001000" cy="6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 u="sng">
                <a:solidFill>
                  <a:srgbClr val="000000"/>
                </a:solidFill>
                <a:uFillTx/>
                <a:latin typeface="Constantia"/>
              </a:rPr>
              <a:t>Status of functioning of Anganwadi Cent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9040" y="1447920"/>
          <a:ext cx="8229600" cy="3417840"/>
        </p:xfrm>
        <a:graphic>
          <a:graphicData uri="http://schemas.openxmlformats.org/drawingml/2006/table">
            <a:tbl>
              <a:tblPr/>
              <a:tblGrid>
                <a:gridCol w="1214640"/>
                <a:gridCol w="3700440"/>
                <a:gridCol w="3314520"/>
              </a:tblGrid>
              <a:tr h="914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l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ype of AWC Buil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o of AWCs/Mini AWCs  functio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wn Buil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6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ol buil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4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nted buil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1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munity buil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3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2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thers(specif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8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5"/>
          <p:cNvSpPr/>
          <p:nvPr/>
        </p:nvSpPr>
        <p:spPr>
          <a:xfrm>
            <a:off x="1579680" y="8668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onstantia"/>
              </a:rPr>
              <a:t>Total AWCs: 7258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920880" y="5562720"/>
            <a:ext cx="777240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WCs under construction: 848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ork to commence: 91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onstantia"/>
                <a:ea typeface="Arial"/>
              </a:rPr>
              <a:t>District wise status of construction of AWC buil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990720"/>
          <a:ext cx="8229600" cy="5535360"/>
        </p:xfrm>
        <a:graphic>
          <a:graphicData uri="http://schemas.openxmlformats.org/drawingml/2006/table">
            <a:tbl>
              <a:tblPr/>
              <a:tblGrid>
                <a:gridCol w="1092240"/>
                <a:gridCol w="2354400"/>
                <a:gridCol w="2392200"/>
                <a:gridCol w="2390760"/>
              </a:tblGrid>
              <a:tr h="5889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l.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rk to comm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WCs Under Constr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LKANGI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OU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MBALP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OGAR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HARSUG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ANDHA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AP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G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LANG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RGAR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HENKA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EONJ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4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BARANGAP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0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BARNAP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ANJ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457200" y="638280"/>
          <a:ext cx="8077320" cy="4884480"/>
        </p:xfrm>
        <a:graphic>
          <a:graphicData uri="http://schemas.openxmlformats.org/drawingml/2006/table">
            <a:tbl>
              <a:tblPr/>
              <a:tblGrid>
                <a:gridCol w="1074600"/>
                <a:gridCol w="2149560"/>
                <a:gridCol w="2338560"/>
                <a:gridCol w="2514600"/>
              </a:tblGrid>
              <a:tr h="9810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l.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rk to comm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WCs Under Co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RGA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YAGA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ALAHAN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AYAG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GATSINGHP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YURBHAN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JP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ENDRAPA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LAS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HURD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TT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HADR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AJAP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ORA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6" name="Rectangle 3"/>
          <p:cNvSpPr/>
          <p:nvPr/>
        </p:nvSpPr>
        <p:spPr>
          <a:xfrm>
            <a:off x="457200" y="5638680"/>
            <a:ext cx="8229600" cy="1219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ffffff"/>
                </a:solidFill>
                <a:latin typeface="Constantia"/>
              </a:rPr>
              <a:t>In 2017-18, Rs 55.40 cr  released for construction of 2770 AWCs under MGNREG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ffffff"/>
                </a:solidFill>
                <a:latin typeface="Constantia"/>
              </a:rPr>
              <a:t>Rs 47.95 cr has been released to take up construction of 685 AWC buildings in the urban areas out of State Plan  @ Rs 7.00 Lakh per AW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itle 1"/>
          <p:cNvSpPr/>
          <p:nvPr/>
        </p:nvSpPr>
        <p:spPr>
          <a:xfrm>
            <a:off x="571680" y="4680"/>
            <a:ext cx="815328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onstantia"/>
              </a:rPr>
              <a:t>District wise status of construction of AWC buil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ction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l buildings need to be completed tim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struction of AWC buildings in 8 DMF districts can be saturated using DMF fu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s 2.00 Lakhs to be provided out of DMF funds and the balance share of Rs 5.00 lakhs is to be met out of MGNRE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stricts to ensure construction of Toilets, Kitchens at AWCs and ensure electrification of all AWCs as per instructions s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ction points continued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partment has released funds for construction of 685 AWCs in urban areas in 2017-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l districts required to start construction at the earli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stricts are required to identify sites for construction of balance 2700 AWC building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ovision is being made for 1000 AWC buildings during the Supplementary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05:06:59Z</dcterms:created>
  <dc:creator>Pragnya</dc:creator>
  <dc:description/>
  <dc:language>en-US</dc:language>
  <cp:lastModifiedBy>AMRPP5464E</cp:lastModifiedBy>
  <cp:lastPrinted>2017-10-27T08:05:09Z</cp:lastPrinted>
  <dcterms:modified xsi:type="dcterms:W3CDTF">2017-10-28T03:52:53Z</dcterms:modified>
  <cp:revision>327</cp:revision>
  <dc:subject/>
  <dc:title>Women &amp; Child Development Department</dc:title>
</cp:coreProperties>
</file>