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8D6-80F1-4493-9F8E-162FD24A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31A-1A2A-43AF-A925-71BBD60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39-3918-4971-9E47-BA232EAB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B66-A14E-4D51-963F-D3443BFC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73A-B4A4-4D8F-9AFC-78AB35B0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7B6-BEB1-4B0A-81FE-11D2DFB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4DE-F869-4D32-B4C4-C55E0C0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DC6-9354-4D20-990E-2982587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A8F-7087-4EDA-A241-01F97B9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733-C444-41D8-93CC-06B4A23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63E-2368-4913-B5D6-BD7DA9C6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C05-0C34-4CC4-85D8-795D708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259-E56D-42B4-9723-5BD14FD0B97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5BB-68B9-4252-8428-C8B0AB296C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n-Line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57200" y="48769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disha Lift Irrigation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F12D-1811-4856-9705-7D7DFA509D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752480" y="838080"/>
            <a:ext cx="5891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llector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8.10.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Users\user\Desktop\OLIC LOGO - Copy.JPG"/>
          <p:cNvPicPr/>
          <p:nvPr/>
        </p:nvPicPr>
        <p:blipFill>
          <a:blip r:embed="rId1"/>
          <a:stretch/>
        </p:blipFill>
        <p:spPr>
          <a:xfrm>
            <a:off x="4143240" y="3714840"/>
            <a:ext cx="135756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4200" y="685800"/>
          <a:ext cx="8472600" cy="5784840"/>
        </p:xfrm>
        <a:graphic>
          <a:graphicData uri="http://schemas.openxmlformats.org/drawingml/2006/table">
            <a:tbl>
              <a:tblPr/>
              <a:tblGrid>
                <a:gridCol w="642960"/>
                <a:gridCol w="1370160"/>
                <a:gridCol w="922320"/>
                <a:gridCol w="922320"/>
                <a:gridCol w="923760"/>
                <a:gridCol w="922320"/>
                <a:gridCol w="922320"/>
                <a:gridCol w="924120"/>
                <a:gridCol w="922320"/>
              </a:tblGrid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brang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bal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aha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enk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j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yg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o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urbh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jap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Title 1"/>
          <p:cNvSpPr/>
          <p:nvPr/>
        </p:nvSpPr>
        <p:spPr>
          <a:xfrm flipV="1" rot="10800000">
            <a:off x="380520" y="18900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TUS OF On-Line BORE WELL 2015-16 to 2016-17  for Energ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685800"/>
          <a:ext cx="8305920" cy="4648320"/>
        </p:xfrm>
        <a:graphic>
          <a:graphicData uri="http://schemas.openxmlformats.org/drawingml/2006/table">
            <a:tbl>
              <a:tblPr/>
              <a:tblGrid>
                <a:gridCol w="582840"/>
                <a:gridCol w="1263600"/>
                <a:gridCol w="922320"/>
                <a:gridCol w="922320"/>
                <a:gridCol w="923760"/>
                <a:gridCol w="922320"/>
                <a:gridCol w="922320"/>
                <a:gridCol w="924120"/>
                <a:gridCol w="922320"/>
              </a:tblGrid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t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ya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kanag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s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rnap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d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dha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0" name="Title 1"/>
          <p:cNvSpPr/>
          <p:nvPr/>
        </p:nvSpPr>
        <p:spPr>
          <a:xfrm flipV="1" rot="10800000">
            <a:off x="380520" y="18900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TUS OF On-Line BORE WELL 2015-16 to 2016-17  for Energ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D69-2421-4138-AE89-C798723667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557360"/>
          <a:ext cx="8640720" cy="4937040"/>
        </p:xfrm>
        <a:graphic>
          <a:graphicData uri="http://schemas.openxmlformats.org/drawingml/2006/table">
            <a:tbl>
              <a:tblPr/>
              <a:tblGrid>
                <a:gridCol w="1295280"/>
                <a:gridCol w="4790880"/>
                <a:gridCol w="2554560"/>
              </a:tblGrid>
              <a:tr h="3740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.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the 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ga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a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g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ng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ergarh (Sundargar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kanagi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enka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urbhanj (Karanj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balp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jap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yaga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TextBox 3"/>
          <p:cNvSpPr/>
          <p:nvPr/>
        </p:nvSpPr>
        <p:spPr>
          <a:xfrm>
            <a:off x="71280" y="189000"/>
            <a:ext cx="8893440" cy="8859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alibri"/>
              </a:rPr>
              <a:t>No. of Bore Wells where electrification is completed and awaiting charging alone as on 26.10.20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56720" cy="17143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3. Repair and revival of Partially defunct Community lift irrigation projects in Drought affected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92672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ed guidelines  issued vide letter no 23004 Dt 16.10.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tee under the chairmanship of Collector shall identify LIP for immediate rep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mmediate repair, 924 nos. LIPs are identified with an approximate cost of Rs.6.02 c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7BB-6B99-4D3A-B5D8-7793A7FA86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280" y="260280"/>
            <a:ext cx="8964720" cy="4899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 for Short term drought mitigation plan-O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981000"/>
          <a:ext cx="8712360" cy="5488200"/>
        </p:xfrm>
        <a:graphic>
          <a:graphicData uri="http://schemas.openxmlformats.org/drawingml/2006/table">
            <a:tbl>
              <a:tblPr/>
              <a:tblGrid>
                <a:gridCol w="549360"/>
                <a:gridCol w="1393920"/>
                <a:gridCol w="833400"/>
                <a:gridCol w="847800"/>
                <a:gridCol w="984240"/>
                <a:gridCol w="931680"/>
                <a:gridCol w="652680"/>
                <a:gridCol w="1309680"/>
                <a:gridCol w="1209600"/>
              </a:tblGrid>
              <a:tr h="32652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 of Bloc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4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. of Projects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x. Estimated cost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Rs. In Lakh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to be benefitt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in H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3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IC &amp; DIST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s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0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ga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hadr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agn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enka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66BC-FB91-48F4-B7A5-9C93C99279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404640"/>
          <a:ext cx="8785440" cy="6013800"/>
        </p:xfrm>
        <a:graphic>
          <a:graphicData uri="http://schemas.openxmlformats.org/drawingml/2006/table">
            <a:tbl>
              <a:tblPr/>
              <a:tblGrid>
                <a:gridCol w="432000"/>
                <a:gridCol w="1527120"/>
                <a:gridCol w="839880"/>
                <a:gridCol w="855360"/>
                <a:gridCol w="954360"/>
                <a:gridCol w="977760"/>
                <a:gridCol w="633600"/>
                <a:gridCol w="1344600"/>
                <a:gridCol w="1220760"/>
              </a:tblGrid>
              <a:tr h="31500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 of Bloc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4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. of Projects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x. Estimated cost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Rs. In Lakh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to be benefitt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in H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3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IC &amp; DIST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01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gar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atsingpu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6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jpu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arsugu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6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ham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onjh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6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urbhan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6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apada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16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.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929800" cy="4809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Funding of Defunct projects under District Mineral F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ors may examine the possibility of funding under District Mineral F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list of defunct LIP is available with respective Executive engin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961720" y="2522520"/>
            <a:ext cx="367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4E0D-BBCC-4424-B960-0402B1B43C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ift Irrigation(Issu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ion of beneficiary share (Old schem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r review and  coordination between DISCOMS and OLIC field functionaries to sort out energization related iss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air and revival of Partially defunct Community lift irrigation projects in Drought affected block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ding of Defunct projects under District Mineral Fu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 Collection of beneficiary share (Old scheme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ciary  contribution is pending in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10066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  due to which Project could not be comple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cts like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udh(1539),Subarnapur(1384),Sambalpur(1266),Kalahandi(668) and Khurda(66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have highest beneficiary share pe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ct collectors to coordinate and ensure beneficiary contribution at the earli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4560"/>
            <a:ext cx="88567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ep bore well 2010-11 to 2014-15 (Off line)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beneficiary share </a:t>
            </a:r>
            <a:br>
              <a:rPr sz="2200"/>
            </a:b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t recei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857160"/>
          <a:ext cx="8534520" cy="5978520"/>
        </p:xfrm>
        <a:graphic>
          <a:graphicData uri="http://schemas.openxmlformats.org/drawingml/2006/table">
            <a:tbl>
              <a:tblPr/>
              <a:tblGrid>
                <a:gridCol w="533520"/>
                <a:gridCol w="1173240"/>
                <a:gridCol w="853920"/>
                <a:gridCol w="852480"/>
                <a:gridCol w="854280"/>
                <a:gridCol w="853920"/>
                <a:gridCol w="852480"/>
                <a:gridCol w="854280"/>
                <a:gridCol w="852480"/>
                <a:gridCol w="853920"/>
              </a:tblGrid>
              <a:tr h="1076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l.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 of 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application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of Eligible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igible Application for drilling attemp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beneficiary share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YDD success DB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s of DBWs. energ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of Achievement So-F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for which beneficiary share not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9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u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arn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mbal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aha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hu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lang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ya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a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harsug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857160"/>
          <a:ext cx="8458200" cy="5710320"/>
        </p:xfrm>
        <a:graphic>
          <a:graphicData uri="http://schemas.openxmlformats.org/drawingml/2006/table">
            <a:tbl>
              <a:tblPr/>
              <a:tblGrid>
                <a:gridCol w="381240"/>
                <a:gridCol w="1311120"/>
                <a:gridCol w="844560"/>
                <a:gridCol w="846000"/>
                <a:gridCol w="846360"/>
                <a:gridCol w="846000"/>
                <a:gridCol w="846360"/>
                <a:gridCol w="844560"/>
                <a:gridCol w="846000"/>
                <a:gridCol w="84600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r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urbhanj (Karanj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o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lkanag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brang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ug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urbhanj (Barip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s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j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ndergarh (Sundergar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" name="Title 1"/>
          <p:cNvSpPr/>
          <p:nvPr/>
        </p:nvSpPr>
        <p:spPr>
          <a:xfrm flipV="1" rot="10800000">
            <a:off x="108000" y="228600"/>
            <a:ext cx="885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US OF BORE WELL-2010-11 to 2014-15 (Off line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beneficiary sh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no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000080"/>
          <a:ext cx="8458200" cy="5808600"/>
        </p:xfrm>
        <a:graphic>
          <a:graphicData uri="http://schemas.openxmlformats.org/drawingml/2006/table">
            <a:tbl>
              <a:tblPr/>
              <a:tblGrid>
                <a:gridCol w="381240"/>
                <a:gridCol w="1311120"/>
                <a:gridCol w="844560"/>
                <a:gridCol w="846000"/>
                <a:gridCol w="846360"/>
                <a:gridCol w="846000"/>
                <a:gridCol w="846360"/>
                <a:gridCol w="844560"/>
                <a:gridCol w="846000"/>
                <a:gridCol w="846000"/>
              </a:tblGrid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yg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ndha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ndergarh (Rourke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onj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henk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jap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tt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0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" name="Title 1"/>
          <p:cNvSpPr/>
          <p:nvPr/>
        </p:nvSpPr>
        <p:spPr>
          <a:xfrm flipV="1" rot="10800000">
            <a:off x="108000" y="228600"/>
            <a:ext cx="885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US OF BORE WELL-2010-11 to 2014-15 (Off line)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beneficiary sh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no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 Coordination between DISCOMS and OLIC field function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782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r review at collectors level-to reduce issues related to Energization and  charg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s like delay in submission of Estimate, Inspection and charging may be sorted out by collectors  active interven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otal of 758 projects pending for  Charging al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ricts like 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argarh(439),Nuapada(84),Anugul(77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ve projects not completed due to Charging  related iss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395280" y="285840"/>
            <a:ext cx="8367840" cy="825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mmery of Physical achievement of 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015-16 to 2016-17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-Line for energisation (in 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832040"/>
          <a:ext cx="8064360" cy="284004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08360"/>
                <a:gridCol w="1295280"/>
                <a:gridCol w="1224000"/>
                <a:gridCol w="1297080"/>
                <a:gridCol w="1079280"/>
              </a:tblGrid>
              <a:tr h="200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. of Appln Recd. With F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ligible Application after Pre-Fea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illing Attemp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ccessful DBWs after YDD &amp; to be taken for Energ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BWs Energised and Handed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lance to be Energ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9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,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611280" y="4965840"/>
            <a:ext cx="8424720" cy="1616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Nos. Drilling to be taken up in two Packages(1-Non-Responsive &amp; one Sub-Judice)    - 1119  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Electrification works in progress and to be completed by 15</a:t>
            </a:r>
            <a:r>
              <a:rPr b="1" lang="en-IN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Nov                                - 4572 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Job Order  for Energisation issued to Service Provider and to be completed by           - 8,693 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Jan’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IN" sz="1400" spc="-1" strike="noStrike">
                <a:solidFill>
                  <a:srgbClr val="000000"/>
                </a:solidFill>
                <a:latin typeface="Arial"/>
              </a:rPr>
              <a:t> Position of Application with FD up to-March’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240" y="18900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TUS OF On-Line BORE WELL 2015-16 to 2016-17  for Energis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5840" y="642960"/>
          <a:ext cx="8553240" cy="6089760"/>
        </p:xfrm>
        <a:graphic>
          <a:graphicData uri="http://schemas.openxmlformats.org/drawingml/2006/table">
            <a:tbl>
              <a:tblPr/>
              <a:tblGrid>
                <a:gridCol w="500040"/>
                <a:gridCol w="1195200"/>
                <a:gridCol w="1193760"/>
                <a:gridCol w="932040"/>
                <a:gridCol w="930240"/>
                <a:gridCol w="932040"/>
                <a:gridCol w="1041120"/>
                <a:gridCol w="820800"/>
                <a:gridCol w="1008000"/>
              </a:tblGrid>
              <a:tr h="15343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l.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the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n. With  beneficiary share recei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igible Application after 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for which drilling attem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 DBWs after YDD su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s. energi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of Achiev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e to be Energi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angi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erg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j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g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onj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harsug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a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ra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cp:lastPrinted>2017-10-18T06:48:20Z</cp:lastPrinted>
  <dcterms:modified xsi:type="dcterms:W3CDTF">2017-10-28T03:27:41Z</dcterms:modified>
  <cp:revision>310</cp:revision>
  <dc:subject/>
  <dc:title>Slide 1</dc:title>
</cp:coreProperties>
</file>